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B38-A3AD-4E5E-91C8-A092928B56D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B8B6-FD4A-403A-904D-46C5C3AB806B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BAD3-AE22-466D-B5E3-98113B776B7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46B-3951-49DD-B748-7465FFE601E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B8F-9441-4BF8-98A9-F08874DA02A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252-914F-4F63-9738-861807AC650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2C7-F020-4B2C-AFF3-3F32B4FB9E1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54CB-04C0-4DE1-A544-9969715DCC4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174-2CC0-4551-916A-7B931246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252-26B7-4F34-8252-E0CECFF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B9E-0054-436B-8381-D610E17B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8DE-CE8B-4660-81E5-D646A3A9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BD-5757-4F47-858B-18AA3D8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2DB-83B1-4A6D-AA24-7BA7CB9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FDD-DC2E-4AFE-A734-B42DA2D3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0C0-50E1-4B77-B68E-2B4CAA3F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DF5-D6AA-4C32-9ABE-DA211EF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96A-4BFF-4E72-9E89-6031C4B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630-FC9A-43A9-AD56-9EB7A66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AAA-39CC-4B19-B66C-CE5971E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B17C-0C80-4513-8179-973E6E7A10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06064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cc"/>
                </a:solidFill>
                <a:latin typeface="Calibri"/>
              </a:rPr>
              <a:t>GRAD RIJE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cc"/>
                </a:solidFill>
                <a:latin typeface="Calibri"/>
              </a:rPr>
              <a:t>(MFSA) Samo-procjena lokalnih finan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1859c"/>
                </a:solidFill>
                <a:latin typeface="Calibri"/>
              </a:rPr>
              <a:t>Ante Mađer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1859c"/>
                </a:solidFill>
                <a:latin typeface="Calibri"/>
              </a:rPr>
              <a:t>Pročelnik odjela za fina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MG_1141"/>
          <p:cNvPicPr/>
          <p:nvPr/>
        </p:nvPicPr>
        <p:blipFill>
          <a:blip r:embed="rId1"/>
          <a:stretch/>
        </p:blipFill>
        <p:spPr>
          <a:xfrm>
            <a:off x="0" y="5013360"/>
            <a:ext cx="342432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MG_4104"/>
          <p:cNvPicPr/>
          <p:nvPr/>
        </p:nvPicPr>
        <p:blipFill>
          <a:blip r:embed="rId2"/>
          <a:stretch/>
        </p:blipFill>
        <p:spPr>
          <a:xfrm>
            <a:off x="3419640" y="5013360"/>
            <a:ext cx="296676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MG_1046"/>
          <p:cNvPicPr/>
          <p:nvPr/>
        </p:nvPicPr>
        <p:blipFill>
          <a:blip r:embed="rId3"/>
          <a:stretch/>
        </p:blipFill>
        <p:spPr>
          <a:xfrm>
            <a:off x="2627280" y="0"/>
            <a:ext cx="315612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MG_1117"/>
          <p:cNvPicPr/>
          <p:nvPr/>
        </p:nvPicPr>
        <p:blipFill>
          <a:blip r:embed="rId4"/>
          <a:stretch/>
        </p:blipFill>
        <p:spPr>
          <a:xfrm>
            <a:off x="0" y="0"/>
            <a:ext cx="2627280" cy="17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IMG_0119"/>
          <p:cNvPicPr/>
          <p:nvPr/>
        </p:nvPicPr>
        <p:blipFill>
          <a:blip r:embed="rId5"/>
          <a:stretch/>
        </p:blipFill>
        <p:spPr>
          <a:xfrm>
            <a:off x="5722920" y="0"/>
            <a:ext cx="3421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FM002"/>
          <p:cNvPicPr/>
          <p:nvPr/>
        </p:nvPicPr>
        <p:blipFill>
          <a:blip r:embed="rId6"/>
          <a:stretch/>
        </p:blipFill>
        <p:spPr>
          <a:xfrm>
            <a:off x="6380280" y="5013360"/>
            <a:ext cx="2763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FSA u Gradu Rije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rad Rijeka se uključio u Program “Samo-procjene lokalnih financija” u samom početku – krajem 2011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ijekom 2012. godine izrađena je Procjena financija Grada Rijeke, te je donesen Plan za financijska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četkom 2014. godine izrađen je i skraćeni prikaz tzv. “City view” koji 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zenriran 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ublikaciji W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9248" t="21099" r="7476" b="8932"/>
          <a:stretch/>
        </p:blipFill>
        <p:spPr>
          <a:xfrm>
            <a:off x="3348000" y="3141720"/>
            <a:ext cx="561672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nam je MFSA ukaza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FSA nam je pomogao u prepoznavanju slabosti  i prilika , te detektiranju izazova koje treba riješi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zazovi u planir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marni suficit vs. defic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eliki udio vlastitih prih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cional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predvidivost prihoda od poreza na dohod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ZULTAT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AN FINANCIJSKIH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Akcijski 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2556000" y="5300640"/>
            <a:ext cx="1439640" cy="21600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 cilj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lan financijskih poboljš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5" descr=""/>
          <p:cNvPicPr/>
          <p:nvPr/>
        </p:nvPicPr>
        <p:blipFill>
          <a:blip r:embed="rId1"/>
          <a:stretch/>
        </p:blipFill>
        <p:spPr>
          <a:xfrm>
            <a:off x="822240" y="1962000"/>
            <a:ext cx="7559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stanje lokalne jedini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11" descr="Specifični cilj 1a.jpg"/>
          <p:cNvPicPr/>
          <p:nvPr/>
        </p:nvPicPr>
        <p:blipFill>
          <a:blip r:embed="rId1"/>
          <a:srcRect l="8372" t="11768" r="26373" b="50048"/>
          <a:stretch/>
        </p:blipFill>
        <p:spPr>
          <a:xfrm>
            <a:off x="179280" y="1341360"/>
            <a:ext cx="8526600" cy="352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stock-vector-yes-no-check-marks-stickers-115979833.jpg"/>
          <p:cNvPicPr/>
          <p:nvPr/>
        </p:nvPicPr>
        <p:blipFill>
          <a:blip r:embed="rId2"/>
          <a:srcRect l="52523" t="5036" r="10765" b="54795"/>
          <a:stretch/>
        </p:blipFill>
        <p:spPr>
          <a:xfrm>
            <a:off x="8648640" y="2492280"/>
            <a:ext cx="316080" cy="3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RTG8MrzTL.png"/>
          <p:cNvPicPr/>
          <p:nvPr/>
        </p:nvPicPr>
        <p:blipFill>
          <a:blip r:embed="rId3"/>
          <a:stretch/>
        </p:blipFill>
        <p:spPr>
          <a:xfrm>
            <a:off x="8675640" y="299736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677440" y="3573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"/>
          <p:cNvPicPr/>
          <p:nvPr/>
        </p:nvPicPr>
        <p:blipFill>
          <a:blip r:embed="rId5"/>
          <a:stretch/>
        </p:blipFill>
        <p:spPr>
          <a:xfrm>
            <a:off x="8653320" y="414504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stanje lokalne jedini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Specifični cilj 1b.jpg"/>
          <p:cNvPicPr/>
          <p:nvPr/>
        </p:nvPicPr>
        <p:blipFill>
          <a:blip r:embed="rId1"/>
          <a:srcRect l="8372" t="11768" r="25248" b="54822"/>
          <a:stretch/>
        </p:blipFill>
        <p:spPr>
          <a:xfrm>
            <a:off x="108000" y="1628640"/>
            <a:ext cx="8497800" cy="30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tock-vector-yes-no-check-marks-stickers-115979833.jpg"/>
          <p:cNvPicPr/>
          <p:nvPr/>
        </p:nvPicPr>
        <p:blipFill>
          <a:blip r:embed="rId2"/>
          <a:srcRect l="8348" t="5030" r="49983" b="55063"/>
          <a:stretch/>
        </p:blipFill>
        <p:spPr>
          <a:xfrm>
            <a:off x="8604360" y="263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tock-vector-yes-no-check-marks-stickers-115979833.jpg"/>
          <p:cNvPicPr/>
          <p:nvPr/>
        </p:nvPicPr>
        <p:blipFill>
          <a:blip r:embed="rId3"/>
          <a:srcRect l="8348" t="5030" r="49983" b="55063"/>
          <a:stretch/>
        </p:blipFill>
        <p:spPr>
          <a:xfrm>
            <a:off x="8604360" y="3573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604360" y="4076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5"/>
          <a:stretch/>
        </p:blipFill>
        <p:spPr>
          <a:xfrm>
            <a:off x="8602560" y="3071880"/>
            <a:ext cx="4334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2. cilj -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boljšati financijsko upravljanje u lokalnoj jedinic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7" descr="Specifični cilj 2.jpg"/>
          <p:cNvPicPr/>
          <p:nvPr/>
        </p:nvPicPr>
        <p:blipFill>
          <a:blip r:embed="rId1"/>
          <a:srcRect l="7248" t="14953" r="26504" b="49138"/>
          <a:stretch/>
        </p:blipFill>
        <p:spPr>
          <a:xfrm>
            <a:off x="0" y="1628640"/>
            <a:ext cx="8453520" cy="324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tock-vector-yes-no-check-marks-stickers-115979833.jpg"/>
          <p:cNvPicPr/>
          <p:nvPr/>
        </p:nvPicPr>
        <p:blipFill>
          <a:blip r:embed="rId2"/>
          <a:srcRect l="8348" t="5030" r="49983" b="55063"/>
          <a:stretch/>
        </p:blipFill>
        <p:spPr>
          <a:xfrm>
            <a:off x="8388360" y="263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ock-vector-yes-no-check-marks-stickers-115979833.jpg"/>
          <p:cNvPicPr/>
          <p:nvPr/>
        </p:nvPicPr>
        <p:blipFill>
          <a:blip r:embed="rId3"/>
          <a:srcRect l="8348" t="5030" r="49983" b="55063"/>
          <a:stretch/>
        </p:blipFill>
        <p:spPr>
          <a:xfrm>
            <a:off x="8388360" y="3860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stock-vector-yes-no-check-marks-stickers-115979833.jpg"/>
          <p:cNvPicPr/>
          <p:nvPr/>
        </p:nvPicPr>
        <p:blipFill>
          <a:blip r:embed="rId4"/>
          <a:srcRect l="8348" t="5030" r="49983" b="55063"/>
          <a:stretch/>
        </p:blipFill>
        <p:spPr>
          <a:xfrm>
            <a:off x="8388360" y="4365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RTG8MrzTL.png"/>
          <p:cNvPicPr/>
          <p:nvPr/>
        </p:nvPicPr>
        <p:blipFill>
          <a:blip r:embed="rId5"/>
          <a:stretch/>
        </p:blipFill>
        <p:spPr>
          <a:xfrm>
            <a:off x="8459640" y="3195720"/>
            <a:ext cx="36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12:02:03Z</dcterms:created>
  <dc:creator>madjeric_ante</dc:creator>
  <dc:description/>
  <dc:language>en-US</dc:language>
  <cp:lastModifiedBy>Mađerić Ante</cp:lastModifiedBy>
  <cp:lastPrinted>2019-03-20T13:38:27Z</cp:lastPrinted>
  <dcterms:modified xsi:type="dcterms:W3CDTF">2019-03-22T07:49:29Z</dcterms:modified>
  <cp:revision>228</cp:revision>
  <dc:subject/>
  <dc:title>Slide 1</dc:title>
</cp:coreProperties>
</file>